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4.gif" ContentType="image/gif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325-C844-40BF-9212-BFFEF9CC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C18-692B-4E3B-BDD7-9269835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815-0763-49E6-9441-19CD489C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E64-D584-4E76-BA81-C898CC0A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E711-166B-4764-AAEA-06495FD0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903E-0375-4BAD-B1BA-65FE0293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C0E5-B044-44F4-815C-1B23D374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B301-699D-48FE-9A01-F713EEB9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4AB4-6B22-4534-87AA-3E2A405E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CBAB-1DCA-47EE-B8A2-9AE0235D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125C-566F-4E01-A530-F34FDEE5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9CE-836F-47C5-8CCD-FE81F48A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155C-141D-44CE-AF5B-CC40E06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B9E0-E432-4535-8038-E0E439C3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23D7-C106-46A7-A9EA-83528D4A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5EC3-2BE0-4AB7-99A0-5C0FCD41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6195-2459-487E-A7FA-4BBB1106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424-08DD-4E82-85AB-94FE8CB9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509-7741-4854-8375-54339B4F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A85-0306-45FB-9025-A6F97DC9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C93-4309-4147-BB96-7DA80D5D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D64-EC17-4FD9-8D98-4800C8C0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376-935D-4E01-A44A-C695575E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393-F589-42DE-913F-AFBD09E0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77FF-D3AB-487F-8B5B-AC1BF202E15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7941-323F-40B1-B22A-D9A01384115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pts.washington.edu/vertp/exhibits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astellar"/>
              </a:rPr>
              <a:t>Evidence of Evolu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8200" y="457200"/>
            <a:ext cx="599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Homologous Structur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43000" y="1752480"/>
            <a:ext cx="7696080" cy="4285080"/>
            <a:chOff x="1143000" y="1752480"/>
            <a:chExt cx="7696080" cy="4285080"/>
          </a:xfrm>
        </p:grpSpPr>
        <p:sp>
          <p:nvSpPr>
            <p:cNvPr id="156" name=""/>
            <p:cNvSpPr/>
            <p:nvPr/>
          </p:nvSpPr>
          <p:spPr>
            <a:xfrm>
              <a:off x="1143000" y="175248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structures that vary in form and/o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334120"/>
              <a:ext cx="601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environment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4572000"/>
              <a:ext cx="685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organism to survive in differe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388620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structure has adapted to enable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320040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same embryonic cells; eac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514600"/>
              <a:ext cx="7696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function but developed from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Castellar"/>
              </a:rPr>
              <a:t>Homologous Structure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1066680"/>
            <a:ext cx="7442280" cy="5791320"/>
            <a:chOff x="1066680" y="1066680"/>
            <a:chExt cx="7442280" cy="5791320"/>
          </a:xfrm>
        </p:grpSpPr>
        <p:pic>
          <p:nvPicPr>
            <p:cNvPr id="164" name="humanarm" descr=""/>
            <p:cNvPicPr/>
            <p:nvPr/>
          </p:nvPicPr>
          <p:blipFill>
            <a:blip r:embed="rId1"/>
            <a:stretch/>
          </p:blipFill>
          <p:spPr>
            <a:xfrm>
              <a:off x="1371600" y="1066680"/>
              <a:ext cx="215892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whalearm" descr=""/>
            <p:cNvPicPr/>
            <p:nvPr/>
          </p:nvPicPr>
          <p:blipFill>
            <a:blip r:embed="rId2"/>
            <a:stretch/>
          </p:blipFill>
          <p:spPr>
            <a:xfrm>
              <a:off x="4038480" y="1219320"/>
              <a:ext cx="161136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crocarm" descr=""/>
            <p:cNvPicPr/>
            <p:nvPr/>
          </p:nvPicPr>
          <p:blipFill>
            <a:blip r:embed="rId3"/>
            <a:stretch/>
          </p:blipFill>
          <p:spPr>
            <a:xfrm>
              <a:off x="5867280" y="1295280"/>
              <a:ext cx="218628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catarm" descr=""/>
            <p:cNvPicPr/>
            <p:nvPr/>
          </p:nvPicPr>
          <p:blipFill>
            <a:blip r:embed="rId4"/>
            <a:stretch/>
          </p:blipFill>
          <p:spPr>
            <a:xfrm>
              <a:off x="1066680" y="4191120"/>
              <a:ext cx="16588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birdarm" descr=""/>
            <p:cNvPicPr/>
            <p:nvPr/>
          </p:nvPicPr>
          <p:blipFill>
            <a:blip r:embed="rId5"/>
            <a:stretch/>
          </p:blipFill>
          <p:spPr>
            <a:xfrm>
              <a:off x="3733920" y="4038480"/>
              <a:ext cx="1557360" cy="260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batarm" descr=""/>
            <p:cNvPicPr/>
            <p:nvPr/>
          </p:nvPicPr>
          <p:blipFill>
            <a:blip r:embed="rId6"/>
            <a:stretch/>
          </p:blipFill>
          <p:spPr>
            <a:xfrm>
              <a:off x="6858000" y="3733920"/>
              <a:ext cx="1650960" cy="31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>
            <a:off x="914400" y="13716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14479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1523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24680" y="144792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052360" y="480960"/>
            <a:ext cx="492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Vestigial Structur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95280" y="2057400"/>
            <a:ext cx="6858000" cy="2379960"/>
            <a:chOff x="1295280" y="2057400"/>
            <a:chExt cx="6858000" cy="2379960"/>
          </a:xfrm>
        </p:grpSpPr>
        <p:sp>
          <p:nvSpPr>
            <p:cNvPr id="176" name=""/>
            <p:cNvSpPr/>
            <p:nvPr/>
          </p:nvSpPr>
          <p:spPr>
            <a:xfrm>
              <a:off x="1295280" y="2057400"/>
              <a:ext cx="685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structures that had a function 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3733920"/>
              <a:ext cx="601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presently have no func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95280" y="2895480"/>
              <a:ext cx="617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the species’ past bu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Castellar"/>
              </a:rPr>
              <a:t>Vestigial Structure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9051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26668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le &amp; snake pelv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34290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n appendix &amp; tailb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42670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g &amp; cat duc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013120" y="457200"/>
            <a:ext cx="6011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6600"/>
                </a:solidFill>
                <a:latin typeface="Castellar"/>
              </a:rPr>
              <a:t>Similarities in Embryology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2133720"/>
            <a:ext cx="72388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the early stages of embryonic development are very similar in organisms that are closely related; the same group of embryonic cells develop in the same ord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Castellar"/>
              </a:rPr>
              <a:t>Embryolog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38080" y="2133720"/>
            <a:ext cx="8048880" cy="4200480"/>
            <a:chOff x="838080" y="2133720"/>
            <a:chExt cx="8048880" cy="420048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838080" y="2210040"/>
              <a:ext cx="1057320" cy="41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1752480" y="2133720"/>
              <a:ext cx="1067040" cy="41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2819520" y="2133720"/>
              <a:ext cx="799920" cy="40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3733920" y="2210040"/>
              <a:ext cx="885600" cy="39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5943600" y="2133720"/>
              <a:ext cx="857160" cy="41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>
              <a:off x="7010280" y="2133720"/>
              <a:ext cx="695520" cy="40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7"/>
            <a:stretch/>
          </p:blipFill>
          <p:spPr>
            <a:xfrm>
              <a:off x="4724280" y="2133720"/>
              <a:ext cx="1076400" cy="41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7924680" y="2133720"/>
              <a:ext cx="962280" cy="39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68580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1676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676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167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0100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814760" y="480960"/>
            <a:ext cx="47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Similarities in DN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752480"/>
            <a:ext cx="3657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6600"/>
                </a:solidFill>
                <a:latin typeface="Times New Roman"/>
                <a:ea typeface="Times New Roman"/>
              </a:rPr>
              <a:t>the more similar the DNA sequences of two species, the more recently they shared a common ancestor and the more closely related they 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dna.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114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8680" y="480960"/>
            <a:ext cx="445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The Fossil Recor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74880" y="1924200"/>
            <a:ext cx="77882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1. Fossils are evidence of once living organis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lbertosauru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2666880"/>
            <a:ext cx="2362320" cy="2248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95280" y="3809880"/>
            <a:ext cx="5181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(examples:  footprint,     shells, bones, tools, writings, buildings, et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The Fossil record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1752480"/>
            <a:ext cx="7696440" cy="3522960"/>
            <a:chOff x="838080" y="1752480"/>
            <a:chExt cx="7696440" cy="3522960"/>
          </a:xfrm>
        </p:grpSpPr>
        <p:sp>
          <p:nvSpPr>
            <p:cNvPr id="95" name=""/>
            <p:cNvSpPr/>
            <p:nvPr/>
          </p:nvSpPr>
          <p:spPr>
            <a:xfrm>
              <a:off x="1447920" y="4572000"/>
              <a:ext cx="640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over tim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47920" y="3886200"/>
              <a:ext cx="685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document that life has chang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47920" y="3124080"/>
              <a:ext cx="7086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younger layers, scientists coul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7920" y="243828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rock layers with fossils fro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080" y="1752480"/>
              <a:ext cx="7467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2.  by comparing fossils from old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Castellar"/>
              </a:rPr>
              <a:t>Geographic Distribution of Living Species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2286000"/>
            <a:ext cx="8381880" cy="2913120"/>
            <a:chOff x="762120" y="2286000"/>
            <a:chExt cx="8381880" cy="2913120"/>
          </a:xfrm>
        </p:grpSpPr>
        <p:sp>
          <p:nvSpPr>
            <p:cNvPr id="102" name=""/>
            <p:cNvSpPr/>
            <p:nvPr/>
          </p:nvSpPr>
          <p:spPr>
            <a:xfrm>
              <a:off x="1219320" y="4495680"/>
              <a:ext cx="662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environment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95280" y="3733560"/>
              <a:ext cx="723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because they do not have a simila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95280" y="297144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related organisms may not look alik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120" y="2286000"/>
              <a:ext cx="838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1.  </a:t>
              </a:r>
              <a:r>
                <a:rPr b="1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Adaptive Radiation (Divergence)</a:t>
              </a: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 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Adaptive radiation (divergence)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600" spc="-1" strike="noStrike">
                <a:solidFill>
                  <a:srgbClr val="482400"/>
                </a:solidFill>
                <a:latin typeface="Times New Roman"/>
              </a:rPr>
              <a:t>Common Ancestor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7920" y="2514600"/>
            <a:ext cx="4420080" cy="1828800"/>
            <a:chOff x="2437920" y="2514600"/>
            <a:chExt cx="4420080" cy="1828800"/>
          </a:xfrm>
        </p:grpSpPr>
        <p:sp>
          <p:nvSpPr>
            <p:cNvPr id="109" name=""/>
            <p:cNvSpPr/>
            <p:nvPr/>
          </p:nvSpPr>
          <p:spPr>
            <a:xfrm flipH="1">
              <a:off x="2437920" y="2514600"/>
              <a:ext cx="2133720" cy="167652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2514600"/>
              <a:ext cx="0" cy="182880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2514600"/>
              <a:ext cx="2286000" cy="160020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838080" y="4419720"/>
            <a:ext cx="7543800" cy="2133360"/>
            <a:chOff x="838080" y="4419720"/>
            <a:chExt cx="7543800" cy="2133360"/>
          </a:xfrm>
        </p:grpSpPr>
        <p:pic>
          <p:nvPicPr>
            <p:cNvPr id="113" name="grizzly" descr=""/>
            <p:cNvPicPr/>
            <p:nvPr/>
          </p:nvPicPr>
          <p:blipFill>
            <a:blip r:embed="rId2"/>
            <a:stretch/>
          </p:blipFill>
          <p:spPr>
            <a:xfrm>
              <a:off x="838080" y="4495680"/>
              <a:ext cx="25909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andabear" descr=""/>
            <p:cNvPicPr/>
            <p:nvPr/>
          </p:nvPicPr>
          <p:blipFill>
            <a:blip r:embed="rId3"/>
            <a:stretch/>
          </p:blipFill>
          <p:spPr>
            <a:xfrm>
              <a:off x="3809880" y="4419720"/>
              <a:ext cx="2133720" cy="21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olarbear" descr=""/>
            <p:cNvPicPr/>
            <p:nvPr/>
          </p:nvPicPr>
          <p:blipFill>
            <a:blip r:embed="rId4"/>
            <a:stretch/>
          </p:blipFill>
          <p:spPr>
            <a:xfrm>
              <a:off x="6248520" y="4419720"/>
              <a:ext cx="213336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6324480" y="243828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Diverged into different environ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Adaptive radiation (divergence)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600" spc="-1" strike="noStrike">
                <a:solidFill>
                  <a:srgbClr val="482400"/>
                </a:solidFill>
                <a:latin typeface="Times New Roman"/>
              </a:rPr>
              <a:t>Common Ancestor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228600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Diverged into different environ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66680" y="4191120"/>
            <a:ext cx="7512120" cy="2666880"/>
            <a:chOff x="1066680" y="4191120"/>
            <a:chExt cx="7512120" cy="2666880"/>
          </a:xfrm>
        </p:grpSpPr>
        <p:pic>
          <p:nvPicPr>
            <p:cNvPr id="121" name="arcticfox1" descr=""/>
            <p:cNvPicPr/>
            <p:nvPr/>
          </p:nvPicPr>
          <p:blipFill>
            <a:blip r:embed="rId2"/>
            <a:stretch/>
          </p:blipFill>
          <p:spPr>
            <a:xfrm>
              <a:off x="3352680" y="4267080"/>
              <a:ext cx="3124440" cy="22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kitfox" descr=""/>
            <p:cNvPicPr/>
            <p:nvPr/>
          </p:nvPicPr>
          <p:blipFill>
            <a:blip r:embed="rId3"/>
            <a:stretch/>
          </p:blipFill>
          <p:spPr>
            <a:xfrm>
              <a:off x="7010280" y="4191120"/>
              <a:ext cx="156852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redfox" descr=""/>
            <p:cNvPicPr/>
            <p:nvPr/>
          </p:nvPicPr>
          <p:blipFill>
            <a:blip r:embed="rId4"/>
            <a:stretch/>
          </p:blipFill>
          <p:spPr>
            <a:xfrm>
              <a:off x="1066680" y="4191120"/>
              <a:ext cx="1781280" cy="266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2285640" y="2514600"/>
            <a:ext cx="5029560" cy="1600200"/>
            <a:chOff x="2285640" y="2514600"/>
            <a:chExt cx="5029560" cy="1600200"/>
          </a:xfrm>
        </p:grpSpPr>
        <p:sp>
          <p:nvSpPr>
            <p:cNvPr id="125" name=""/>
            <p:cNvSpPr/>
            <p:nvPr/>
          </p:nvSpPr>
          <p:spPr>
            <a:xfrm>
              <a:off x="4724280" y="2514600"/>
              <a:ext cx="0" cy="152388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285640" y="2514600"/>
              <a:ext cx="2438280" cy="144792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2514600"/>
              <a:ext cx="2590920" cy="160020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Castellar"/>
              </a:rPr>
              <a:t>Geographic Distribution of Living Species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5800" y="2286000"/>
            <a:ext cx="8458200" cy="3446640"/>
            <a:chOff x="685800" y="2286000"/>
            <a:chExt cx="8458200" cy="3446640"/>
          </a:xfrm>
        </p:grpSpPr>
        <p:sp>
          <p:nvSpPr>
            <p:cNvPr id="130" name=""/>
            <p:cNvSpPr/>
            <p:nvPr/>
          </p:nvSpPr>
          <p:spPr>
            <a:xfrm>
              <a:off x="1219320" y="5029200"/>
              <a:ext cx="624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the same environme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9320" y="4038840"/>
              <a:ext cx="79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similar structures because they sha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3124440"/>
              <a:ext cx="7086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organisms can have remarkabl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2286000"/>
              <a:ext cx="762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2.  </a:t>
              </a:r>
              <a:r>
                <a:rPr b="1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Convergence </a:t>
              </a: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– unrelat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Convergence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828800" y="4038480"/>
            <a:ext cx="5181480" cy="1219320"/>
            <a:chOff x="1828800" y="4038480"/>
            <a:chExt cx="5181480" cy="1219320"/>
          </a:xfrm>
        </p:grpSpPr>
        <p:sp>
          <p:nvSpPr>
            <p:cNvPr id="136" name=""/>
            <p:cNvSpPr/>
            <p:nvPr/>
          </p:nvSpPr>
          <p:spPr>
            <a:xfrm>
              <a:off x="1828800" y="4191120"/>
              <a:ext cx="2209680" cy="106668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19720" y="4038480"/>
              <a:ext cx="0" cy="114300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724280" y="4191120"/>
              <a:ext cx="2286000" cy="106668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743200" y="5486400"/>
            <a:ext cx="45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Converged into the same environment…not rel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38080" y="1981080"/>
            <a:ext cx="8077320" cy="2133720"/>
            <a:chOff x="838080" y="1981080"/>
            <a:chExt cx="8077320" cy="2133720"/>
          </a:xfrm>
        </p:grpSpPr>
        <p:pic>
          <p:nvPicPr>
            <p:cNvPr id="141" name="dolphin" descr=""/>
            <p:cNvPicPr/>
            <p:nvPr/>
          </p:nvPicPr>
          <p:blipFill>
            <a:blip r:embed="rId2"/>
            <a:stretch/>
          </p:blipFill>
          <p:spPr>
            <a:xfrm>
              <a:off x="838080" y="1981080"/>
              <a:ext cx="213372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shark" descr=""/>
            <p:cNvPicPr/>
            <p:nvPr/>
          </p:nvPicPr>
          <p:blipFill>
            <a:blip r:embed="rId3"/>
            <a:stretch/>
          </p:blipFill>
          <p:spPr>
            <a:xfrm>
              <a:off x="3200400" y="2057400"/>
              <a:ext cx="297180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clownfish" descr=""/>
            <p:cNvPicPr/>
            <p:nvPr/>
          </p:nvPicPr>
          <p:blipFill>
            <a:blip r:embed="rId4"/>
            <a:stretch/>
          </p:blipFill>
          <p:spPr>
            <a:xfrm>
              <a:off x="6324480" y="2057400"/>
              <a:ext cx="2590920" cy="195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Convergence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28800" y="4191120"/>
            <a:ext cx="5181480" cy="1218600"/>
            <a:chOff x="1828800" y="4191120"/>
            <a:chExt cx="5181480" cy="1218600"/>
          </a:xfrm>
        </p:grpSpPr>
        <p:sp>
          <p:nvSpPr>
            <p:cNvPr id="146" name=""/>
            <p:cNvSpPr/>
            <p:nvPr/>
          </p:nvSpPr>
          <p:spPr>
            <a:xfrm>
              <a:off x="1828800" y="4343400"/>
              <a:ext cx="2209680" cy="106632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19720" y="4191120"/>
              <a:ext cx="0" cy="114264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724280" y="4343400"/>
              <a:ext cx="2286000" cy="106632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743200" y="5486400"/>
            <a:ext cx="4343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Converged into the same environment…not rel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800" y="2352600"/>
            <a:ext cx="8229600" cy="1847880"/>
            <a:chOff x="685800" y="2352600"/>
            <a:chExt cx="8229600" cy="1847880"/>
          </a:xfrm>
        </p:grpSpPr>
        <p:pic>
          <p:nvPicPr>
            <p:cNvPr id="151" name="bat14" descr=""/>
            <p:cNvPicPr/>
            <p:nvPr/>
          </p:nvPicPr>
          <p:blipFill>
            <a:blip r:embed="rId2"/>
            <a:stretch/>
          </p:blipFill>
          <p:spPr>
            <a:xfrm>
              <a:off x="6019920" y="2352600"/>
              <a:ext cx="289548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butterfly" descr=""/>
            <p:cNvPicPr/>
            <p:nvPr/>
          </p:nvPicPr>
          <p:blipFill>
            <a:blip r:embed="rId3"/>
            <a:stretch/>
          </p:blipFill>
          <p:spPr>
            <a:xfrm>
              <a:off x="3276720" y="2362320"/>
              <a:ext cx="259056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eagle" descr=""/>
            <p:cNvPicPr/>
            <p:nvPr/>
          </p:nvPicPr>
          <p:blipFill>
            <a:blip r:embed="rId4"/>
            <a:stretch/>
          </p:blipFill>
          <p:spPr>
            <a:xfrm>
              <a:off x="685800" y="2362320"/>
              <a:ext cx="2438280" cy="183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7:47:07Z</dcterms:created>
  <dc:creator>Plano ISD</dc:creator>
  <dc:description/>
  <dc:language>en-US</dc:language>
  <cp:lastModifiedBy>Plano ISD</cp:lastModifiedBy>
  <dcterms:modified xsi:type="dcterms:W3CDTF">2005-01-03T17:32:29Z</dcterms:modified>
  <cp:revision>27</cp:revision>
  <dc:subject/>
  <dc:title>PowerPoint Presentation</dc:title>
</cp:coreProperties>
</file>